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FBA-9B05-4F85-B4A0-2B2099A0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70D-198E-4878-B475-EEC0584D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D78-2618-42C2-B0A4-42E0A046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B1F-4F1A-46DD-90D7-45457536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4ED-D39B-4B93-9779-DCA799A0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178-B3FD-44E3-9FF0-A54C66F2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740-C4EC-47EB-BA88-D584D878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E7C-1A03-4AEB-BE0B-AC7CFF76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847-475F-43A9-8305-68A9C2E8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8E7-299D-420D-8F74-730FAA68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560-8990-452E-8A16-491E5CA4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8D7-C9DC-4C94-8481-B8B52788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FEF2-3FCB-4CE6-8B08-02500B63B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2:55:37Z</dcterms:created>
  <dc:creator>backup</dc:creator>
  <dc:description/>
  <dc:language>en-US</dc:language>
  <cp:lastModifiedBy>backup</cp:lastModifiedBy>
  <dcterms:modified xsi:type="dcterms:W3CDTF">2009-03-01T12:56:57Z</dcterms:modified>
  <cp:revision>1</cp:revision>
  <dc:subject/>
  <dc:title>Slide 1</dc:title>
</cp:coreProperties>
</file>